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BDF-0B53-4302-9C10-94C8E17F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4B4-5CEF-4090-B267-52252578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6F9-C73A-46C0-87F1-94300EC8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C68-F9B7-492B-A5E2-61A4B125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CEB-B387-4427-B3F4-D3A1EF47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31D-5D4A-4C43-A5A6-F32FA92A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4CA-3FB8-4404-8263-61C5C05C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F29-34BC-44E5-A84C-4B0BC830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366-7729-49F9-B65D-1598523A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912-30C2-4DCB-95BD-321379D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EB4-3F6C-491A-AC44-47A1ECAC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D4E-4BB9-431E-9385-29017CF6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AEA4-1FDE-4249-8E2E-E9692F4B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4:19:32Z</dcterms:created>
  <dc:creator>sshort</dc:creator>
  <dc:description/>
  <dc:language>en-US</dc:language>
  <cp:lastModifiedBy>sshort</cp:lastModifiedBy>
  <dcterms:modified xsi:type="dcterms:W3CDTF">2008-10-06T14:19:56Z</dcterms:modified>
  <cp:revision>1</cp:revision>
  <dc:subject/>
  <dc:title>Slide 1</dc:title>
</cp:coreProperties>
</file>